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88C4-66B0-49C4-8F0A-B3F8EE8B0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D02C-9496-40EC-9AD5-481179AB6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3ABA-0A58-4C6C-A08F-47CCB4093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D7E1-1436-400B-AEF4-F5B28E2D7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C1BD0-D78B-4124-9808-DD1F5B1DD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3AAE0-D1DB-4CF4-BA7E-CB82C47F6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FB4B5-3849-482B-AE59-D0196F3A2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DB59B-D071-4D91-9AC8-AB1947DC7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E6DB8-DDE2-46A2-B85B-BE7315483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3BF90-3DFE-4C29-9601-BB4AFA877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517E1-CD1A-4F53-A83E-D8B4FB21D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EB85-9B00-45D5-8C94-32B0548C3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32578-2D31-401B-805E-93C64D47E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A0BD1-A5FF-4CB5-AEC5-3692A3F22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B551D-DC5A-4F3D-9D30-F3494CB4F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183BF-1C9D-4010-AA79-AA83C16F1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90813-2BF7-4A0D-9AAB-E987984E3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1E83-27E9-4C84-BE35-92F71477F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8FF2-4B93-4733-BB09-1E4D5C0D2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C851-B118-4955-94D5-28DB62195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FE37-0644-40FC-AC97-C6B2CF270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421B-DE56-45F5-B87E-CE8364C4B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AD15-81EA-4FE2-B95B-D30808C1D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61E7-EE81-4B23-AC62-518F100EB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d0dae2"/>
                </a:gs>
                <a:gs pos="100000">
                  <a:srgbClr val="c3cc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d0dae2"/>
                </a:gs>
                <a:gs pos="100000">
                  <a:srgbClr val="e7edf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A7FF6-1A21-4595-8021-C3A6391D43C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d0dae2"/>
                </a:gs>
                <a:gs pos="100000">
                  <a:srgbClr val="afb7b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d0dae2"/>
                </a:gs>
                <a:gs pos="100000">
                  <a:srgbClr val="e7edf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E4E41-9093-4A87-BD73-92BF4C8EED7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3276360"/>
            <a:ext cx="77724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ahoma"/>
              </a:rPr>
              <a:t>Живая оболочка Земли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990720" y="4648320"/>
            <a:ext cx="7772400" cy="1904760"/>
          </a:xfrm>
          <a:prstGeom prst="rect">
            <a:avLst/>
          </a:prstGeom>
          <a:noFill/>
          <a:ln w="76320">
            <a:solidFill>
              <a:srgbClr val="97ad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ahoma"/>
              </a:rPr>
              <a:t>Составила: Маркова Лайма Валдисовн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учитель химии и биологии Усть-Язьвинской МСОШ Красновишерского района Пермского кр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ahoma"/>
              </a:rPr>
              <a:t>Оформила в 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ower Point</a:t>
            </a:r>
            <a:r>
              <a:rPr b="1" lang="ru-RU" sz="1800" spc="-1" strike="noStrike">
                <a:solidFill>
                  <a:srgbClr val="3333cc"/>
                </a:solidFill>
                <a:latin typeface="Tahoma"/>
              </a:rPr>
              <a:t>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ahoma"/>
              </a:rPr>
              <a:t>Добрынина Людмила Викторовна,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учитель биологии МОУ Краснооктябрьская СОШ Каргапольского района Курганской области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514600" y="457200"/>
            <a:ext cx="4267080" cy="2666880"/>
          </a:xfrm>
          <a:prstGeom prst="rect">
            <a:avLst/>
          </a:prstGeom>
          <a:ln w="57240">
            <a:solidFill>
              <a:srgbClr val="97adb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457200" y="1905120"/>
          <a:ext cx="8229600" cy="4525920"/>
        </p:xfrm>
        <a:graphic>
          <a:graphicData uri="http://schemas.openxmlformats.org/drawingml/2006/table">
            <a:tbl>
              <a:tblPr/>
              <a:tblGrid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24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</a:tblGrid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8229600" cy="711000"/>
          </a:xfrm>
          <a:prstGeom prst="rect">
            <a:avLst/>
          </a:prstGeom>
          <a:solidFill>
            <a:srgbClr val="33cccc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Живая оболочка Земли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4267440" cy="4343400"/>
          </a:xfrm>
          <a:prstGeom prst="rect">
            <a:avLst/>
          </a:prstGeom>
          <a:ln w="38160">
            <a:solidFill>
              <a:srgbClr val="97adbf"/>
            </a:solidFill>
            <a:miter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410080" y="4038480"/>
            <a:ext cx="3505320" cy="2401920"/>
          </a:xfrm>
          <a:prstGeom prst="rect">
            <a:avLst/>
          </a:prstGeom>
          <a:ln w="38160">
            <a:solidFill>
              <a:srgbClr val="97adbf"/>
            </a:solidFill>
            <a:miter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5410080" y="1828800"/>
            <a:ext cx="3505320" cy="2209680"/>
          </a:xfrm>
          <a:prstGeom prst="rect">
            <a:avLst/>
          </a:prstGeom>
          <a:ln w="38160">
            <a:solidFill>
              <a:srgbClr val="97adb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В презентации использованы иллюстрации из: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бразовательный комплекс «Биология, 10 кл.» - ©ЗАО «1С», 2009; ©OOО «1С-Паблишинг», 2009; © Издательский центр «Вентана-Граф»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екст учебника с иллюстрациями, 200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иблиотека электронных наглядных пособий «Биология. 6-9 классы» - Кирилл и Мефодий,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ольшая энциклопедия Кирилла и Мефодия, 200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457200" y="1905120"/>
          <a:ext cx="8229600" cy="4525920"/>
        </p:xfrm>
        <a:graphic>
          <a:graphicData uri="http://schemas.openxmlformats.org/drawingml/2006/table">
            <a:tbl>
              <a:tblPr/>
              <a:tblGrid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24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</a:tblGrid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382760"/>
          </a:xfrm>
          <a:prstGeom prst="rect">
            <a:avLst/>
          </a:prstGeom>
          <a:solidFill>
            <a:srgbClr val="6666ff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Количество живого вещества той или иной биологической системы, приходящееся на единицу площади или объем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28600" y="3352680"/>
            <a:ext cx="19051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  /  S = 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705720" y="5791320"/>
            <a:ext cx="190476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  /  V  =  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457200" y="1905120"/>
          <a:ext cx="8229600" cy="4525920"/>
        </p:xfrm>
        <a:graphic>
          <a:graphicData uri="http://schemas.openxmlformats.org/drawingml/2006/table">
            <a:tbl>
              <a:tblPr/>
              <a:tblGrid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24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</a:tblGrid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320840"/>
          </a:xfrm>
          <a:prstGeom prst="rect">
            <a:avLst/>
          </a:prstGeom>
          <a:solidFill>
            <a:srgbClr val="6666ff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2. Ученый, создавший учение о биосфере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2874600" y="1669320"/>
            <a:ext cx="3396600" cy="35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88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863–1945 гг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Вернадский Владимир Иванович"/>
          <p:cNvPicPr/>
          <p:nvPr/>
        </p:nvPicPr>
        <p:blipFill>
          <a:blip r:embed="rId1"/>
          <a:stretch/>
        </p:blipFill>
        <p:spPr>
          <a:xfrm>
            <a:off x="6934320" y="4267080"/>
            <a:ext cx="1952640" cy="2400480"/>
          </a:xfrm>
          <a:prstGeom prst="rect">
            <a:avLst/>
          </a:prstGeom>
          <a:ln w="57240">
            <a:solidFill>
              <a:srgbClr val="97adb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010280" y="2590920"/>
            <a:ext cx="1905120" cy="1457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858000" y="4495680"/>
            <a:ext cx="2057400" cy="185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1" name=""/>
          <p:cNvGraphicFramePr/>
          <p:nvPr/>
        </p:nvGraphicFramePr>
        <p:xfrm>
          <a:off x="457200" y="1905120"/>
          <a:ext cx="8229600" cy="4525920"/>
        </p:xfrm>
        <a:graphic>
          <a:graphicData uri="http://schemas.openxmlformats.org/drawingml/2006/table">
            <a:tbl>
              <a:tblPr/>
              <a:tblGrid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24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</a:tblGrid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320840"/>
          </a:xfrm>
          <a:prstGeom prst="rect">
            <a:avLst/>
          </a:prstGeom>
          <a:solidFill>
            <a:srgbClr val="6666ff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3.Вещество, образованное совокупностью организмов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228600" y="3505320"/>
            <a:ext cx="1676520" cy="14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457200" y="1905120"/>
          <a:ext cx="8229600" cy="4525920"/>
        </p:xfrm>
        <a:graphic>
          <a:graphicData uri="http://schemas.openxmlformats.org/drawingml/2006/table">
            <a:tbl>
              <a:tblPr/>
              <a:tblGrid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24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</a:tblGrid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3400"/>
            <a:ext cx="8229600" cy="1739880"/>
          </a:xfrm>
          <a:prstGeom prst="rect">
            <a:avLst/>
          </a:prstGeom>
          <a:solidFill>
            <a:srgbClr val="6666ff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4.Живые организмы, составляющие основную часть биомассы планеты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457200" y="1905120"/>
          <a:ext cx="8229600" cy="4525920"/>
        </p:xfrm>
        <a:graphic>
          <a:graphicData uri="http://schemas.openxmlformats.org/drawingml/2006/table">
            <a:tbl>
              <a:tblPr/>
              <a:tblGrid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24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</a:tblGrid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17480"/>
            <a:ext cx="8229600" cy="711360"/>
          </a:xfrm>
          <a:prstGeom prst="rect">
            <a:avLst/>
          </a:prstGeom>
          <a:solidFill>
            <a:srgbClr val="6666ff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5.Газовая оболочка Земли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rcRect l="39064" t="17709" r="19532" b="7294"/>
          <a:stretch/>
        </p:blipFill>
        <p:spPr>
          <a:xfrm>
            <a:off x="7010280" y="4343400"/>
            <a:ext cx="1851120" cy="2209680"/>
          </a:xfrm>
          <a:prstGeom prst="rect">
            <a:avLst/>
          </a:prstGeom>
          <a:ln w="38160">
            <a:solidFill>
              <a:srgbClr val="97adb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457200" y="1905120"/>
          <a:ext cx="8229600" cy="4525920"/>
        </p:xfrm>
        <a:graphic>
          <a:graphicData uri="http://schemas.openxmlformats.org/drawingml/2006/table">
            <a:tbl>
              <a:tblPr/>
              <a:tblGrid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24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</a:tblGrid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17480"/>
            <a:ext cx="8229600" cy="711360"/>
          </a:xfrm>
          <a:prstGeom prst="rect">
            <a:avLst/>
          </a:prstGeom>
          <a:solidFill>
            <a:srgbClr val="6666ff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6. Элемент - органоген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010280" y="4648320"/>
            <a:ext cx="1676520" cy="1616040"/>
          </a:xfrm>
          <a:prstGeom prst="rect">
            <a:avLst/>
          </a:prstGeom>
          <a:ln w="38160">
            <a:solidFill>
              <a:srgbClr val="97adbf"/>
            </a:solidFill>
            <a:miter/>
          </a:ln>
        </p:spPr>
      </p:pic>
      <p:sp>
        <p:nvSpPr>
          <p:cNvPr id="112" name=""/>
          <p:cNvSpPr txBox="1"/>
          <p:nvPr/>
        </p:nvSpPr>
        <p:spPr>
          <a:xfrm>
            <a:off x="6477120" y="2743200"/>
            <a:ext cx="18478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N   O    C    H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" name=""/>
          <p:cNvSpPr txBox="1"/>
          <p:nvPr/>
        </p:nvSpPr>
        <p:spPr>
          <a:xfrm rot="19768200">
            <a:off x="228600" y="3809880"/>
            <a:ext cx="24382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K   Na  S  P  Cl  Fe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457200" y="1905120"/>
          <a:ext cx="8229600" cy="4525920"/>
        </p:xfrm>
        <a:graphic>
          <a:graphicData uri="http://schemas.openxmlformats.org/drawingml/2006/table">
            <a:tbl>
              <a:tblPr/>
              <a:tblGrid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24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</a:tblGrid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16880"/>
            <a:ext cx="8229600" cy="1312920"/>
          </a:xfrm>
          <a:prstGeom prst="rect">
            <a:avLst/>
          </a:prstGeom>
          <a:solidFill>
            <a:srgbClr val="6666ff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7. Движение веществ в природе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457200" y="1905120"/>
          <a:ext cx="8229600" cy="4525920"/>
        </p:xfrm>
        <a:graphic>
          <a:graphicData uri="http://schemas.openxmlformats.org/drawingml/2006/table">
            <a:tbl>
              <a:tblPr/>
              <a:tblGrid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24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</a:tblGrid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42640"/>
            <a:ext cx="8229600" cy="1749240"/>
          </a:xfrm>
          <a:prstGeom prst="rect">
            <a:avLst/>
          </a:prstGeom>
          <a:solidFill>
            <a:srgbClr val="6666ff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8.Важный компонент биосферы и один из необходимых факторов существования живых организмов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rcRect l="39064" t="17709" r="19532" b="7294"/>
          <a:stretch/>
        </p:blipFill>
        <p:spPr>
          <a:xfrm>
            <a:off x="7010280" y="4343400"/>
            <a:ext cx="1851120" cy="2209680"/>
          </a:xfrm>
          <a:prstGeom prst="rect">
            <a:avLst/>
          </a:prstGeom>
          <a:ln w="38160">
            <a:solidFill>
              <a:srgbClr val="97adb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chitel</cp:lastModifiedBy>
  <dcterms:modified xsi:type="dcterms:W3CDTF">2011-03-05T15:30:54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